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491-6717-40B0-8EFB-B334F64F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78B-599B-4294-9EFD-4B0B9D52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17B-F136-434F-AA1A-3AEE2B95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FADF-7663-4E38-A973-68A8B3F0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A96-F2EF-46E0-81C0-5F88986E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F48-43AB-4866-8730-DA18F9D9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0E2-1A05-43C5-8D3B-F3CBAC2D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9A3-E35F-49FD-98E5-C5AD76D9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618-7407-46E8-82C5-FAAC2CCE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1E7-DA11-4818-8D0B-0ED006AB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42C-3AEA-44FD-8216-F9E8819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A3E-DEFD-4F4A-8313-9B48FF5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8DB9-39B4-4930-9A74-77D36CA95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632720" cy="6257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59280" y="981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pint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pint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nad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703760" cy="6480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859280" y="981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salt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salt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jug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habl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cant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corre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aila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lee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620640"/>
            <a:ext cx="4672080" cy="5919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292720" y="83664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na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jugar al fútbol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6624360" cy="5210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148360" y="54936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jug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1165320"/>
            <a:ext cx="7272360" cy="5254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219640" y="54936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habl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5545080" cy="5049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59280" y="981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cant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26920" y="-15840"/>
            <a:ext cx="7705800" cy="6873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981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and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81080" y="-387360"/>
            <a:ext cx="62247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981000"/>
            <a:ext cx="410544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jugar 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fútbo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408720" cy="636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64000" y="54936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le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76760" cy="5308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59280" y="981000"/>
            <a:ext cx="33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bail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6T19:59:20Z</dcterms:created>
  <dc:creator>Helen</dc:creator>
  <dc:description/>
  <dc:language>en-US</dc:language>
  <cp:lastModifiedBy>Katy Oliver</cp:lastModifiedBy>
  <dcterms:modified xsi:type="dcterms:W3CDTF">2011-01-17T10:29:42Z</dcterms:modified>
  <cp:revision>3</cp:revision>
  <dc:subject/>
  <dc:title>Slide 1</dc:title>
</cp:coreProperties>
</file>